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603F1-DEA4-4446-8E88-CF188838D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B37C8-D4B7-446E-B26D-F9080310E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0CF73-6DA6-417A-BB89-8CC5D4756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B112E-51FA-4A97-B008-787EDB659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05089B-2F2C-4207-9FBA-1F9E572DC9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02283-9A0B-4D2E-9992-F2A1701E5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1435A-4A2B-4EB6-A21C-F9865CA9F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23CB4-9E0B-4ACE-81A6-30D442050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65DC1-DEFF-43C9-B8FF-C650A1A5C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6F8C3-A088-4C5B-BAA1-8AE2AEADD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AB469-A3CF-4487-85C8-3C5268034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79340-8F5A-4FB1-92B7-ED403867E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A1532-88FD-47BA-8693-4ABD8C2C8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6147E-E8FA-4E2E-8FD5-EC2272D0C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9D641-2EDF-4638-B0F4-FA6C630D3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BAB0B4-FE1A-44D3-AEBF-0C787EB55C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D21179-2B6B-4E42-949A-9E0C974AF7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D40597-6BA8-483B-8271-D02AB8653A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F32D01-6FE9-4AE2-BF6E-A625A8F371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911D3F-4622-4E08-B377-2776CF988E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BCD814-0214-40A7-83C7-9ADB5A8CE2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2FD7BF-E0F5-4A64-8467-1C179D37E3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24A60-1DDE-4A37-8023-8328114F9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6AA1EB-8516-4AD8-A696-439C7C10D9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0DDEB9-2847-4E88-AC3D-F7FAD91F0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7745CF-B6A2-44F7-93A0-9BB0B75501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93BCD5-3A9F-4516-9A36-E21BF56255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5A0A99-B83F-45C1-AFAD-6CE2B1341C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25E8A6-9202-43F7-9C1F-BEB3427058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FD428F-2CF2-4395-9F65-3A1D36B8E8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627069-5C7B-423E-8B5B-B0D683AEC6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C7CEBB-80B3-48EF-8B51-F26272B44E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91A569-1F80-43FF-9F9C-423F52D6FD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DACA3-9954-4B37-90EF-8619AB7D5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5F9B5E-06DC-4B89-B67A-49B6659F43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BD9467-B74C-46AA-88F9-109658F7C7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E352EF-17F1-4943-AFC9-5CF998F2B4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D0B34D-CD17-4FC3-8465-045E674F47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4711A0-308C-4941-BAF6-8B71A62D79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5EA59B-200E-430B-A907-70FA196777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9FDE40-5118-44A3-A358-9BF1F84054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E72504-2DCF-474D-8D04-5E60266FDE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988625-3887-4AEB-B726-7B26CDDEF8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68CFDD-6B43-4470-B836-B674D38B46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039C6-4CC8-44E8-9536-23C288FAC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D4335C-9DAC-4199-BA39-F639840A8E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E36826-E489-4727-B826-CAAB4313C9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701E99-B425-45F8-BF8F-8F87EAE32C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A530BE-7835-4BC3-8419-7B4E7CC4FB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493611-33F7-4B47-927F-096031542B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8DE92B-C1D7-4C76-870A-824A4CD3F6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AF8677-7599-485C-9D76-85CD469C04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8EF402-71C1-49DD-9049-E341A20E66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35F28C-C57A-40F1-AA46-5E05D34B5D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F3F086-160F-4DA2-9F67-D03A62C21E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32300-148B-4B62-920E-C174167DB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1EE2E3-7830-401A-9B40-B1FF48EDDF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CD77CC-8670-4414-8318-69DC92B486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B58F81-0CBF-48FD-A8B6-FA3443093C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00EA00-7027-41E2-A78F-F13A680DC8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35EEE8-709A-4881-916A-8739A532E7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48CE16-59FF-4CED-86E5-1D4DB1464E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7FEDF7-B7EB-4CBE-BB41-40B990D4B5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B9F6FB-F150-44C6-A6E4-18C47AEFC6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9419AD-58EF-45A1-A6AB-253155E0CE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789A75-2E65-4C61-9A1E-F538924C57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2D51E-1C08-47ED-AE2D-97C738A0E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4BB44B-25DC-4844-8959-C6C86DAD64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642C2E-E7A9-441B-BF7C-4069E36699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9E4EAF-5E8C-4552-BDF5-DB5A9130E6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FAEF3F-5BB6-4F30-80F4-9D96BC368A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62CC6B-161D-4C35-9A21-8238E8A1E9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55B236-B11F-4D1E-8D71-A77D61A94D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3D0A75-DC7D-48C6-AAAE-5C05518A2A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F631D8-E0D3-4D54-B890-185A514B56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51ABAF-FD43-4E21-ABB8-04A4A39AA6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1FF238-2202-4A77-B0C0-EA953A4E58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B188C-2777-497D-BF11-71E40D916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928B08-0D5E-43D7-B0F8-6E34095B5D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D80D68-ED69-43F0-B399-C603F4C6BF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2AB7F5-BF88-46C6-A417-EFD7B3B203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2E29DB-E7C2-4B11-976E-BF92ACBA12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34F49B-A4AA-4454-97D7-B9C488083B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865AC-F50C-4685-8145-F9E720601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FB8CA8-8E82-470F-9CE2-A6DD8AFD7992}" type="datetime">
              <a:rPr b="0" lang="en-US" sz="1100" spc="-1" strike="noStrike">
                <a:solidFill>
                  <a:srgbClr val="d6ecff"/>
                </a:solidFill>
                <a:latin typeface="Corbel"/>
              </a:rPr>
              <a:t>07/31/26</a:t>
            </a:fld>
            <a:endParaRPr b="0" lang="en-US" sz="1100" spc="-1" strike="noStrike">
              <a:solidFill>
                <a:srgbClr val="000000"/>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FC47B3-1472-4546-982D-6796A2326508}" type="slidenum">
              <a:rPr b="0" lang="en-US" sz="1200" spc="-1" strike="noStrike">
                <a:solidFill>
                  <a:srgbClr val="d6ec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8F167E-B427-4F98-84BA-C8B3E182D0B9}" type="datetime">
              <a:rPr b="0" lang="en-US" sz="1100" spc="-1" strike="noStrike">
                <a:solidFill>
                  <a:srgbClr val="d6ecff"/>
                </a:solidFill>
                <a:latin typeface="Corbel"/>
              </a:rPr>
              <a:t>07/31/26</a:t>
            </a:fld>
            <a:endParaRPr b="0" lang="en-US" sz="1100" spc="-1" strike="noStrike">
              <a:solidFill>
                <a:srgbClr val="000000"/>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892909-1301-4B50-B16E-43CA7AFE59CA}" type="slidenum">
              <a:rPr b="0" lang="en-US" sz="1200" spc="-1" strike="noStrike">
                <a:solidFill>
                  <a:srgbClr val="d6ec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99AFA0-A9D5-4665-98FA-AF56E32A4D2B}" type="datetime">
              <a:rPr b="0" lang="en-US" sz="1100" spc="-1" strike="noStrike">
                <a:solidFill>
                  <a:srgbClr val="d6ecff"/>
                </a:solidFill>
                <a:latin typeface="Corbel"/>
              </a:rPr>
              <a:t>07/31/26</a:t>
            </a:fld>
            <a:endParaRPr b="0" lang="en-US" sz="1100" spc="-1" strike="noStrike">
              <a:solidFill>
                <a:srgbClr val="000000"/>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EA08B9-8814-4377-94B0-4D6C2907A160}" type="slidenum">
              <a:rPr b="0" lang="en-US" sz="1200" spc="-1" strike="noStrike">
                <a:solidFill>
                  <a:srgbClr val="d6ec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0C2D55-9F68-44E2-A07C-FE5F46EEE4E4}" type="datetime">
              <a:rPr b="0" lang="en-US" sz="1100" spc="-1" strike="noStrike">
                <a:solidFill>
                  <a:srgbClr val="d6ecff"/>
                </a:solidFill>
                <a:latin typeface="Corbel"/>
              </a:rPr>
              <a:t>07/31/26</a:t>
            </a:fld>
            <a:endParaRPr b="0" lang="en-US" sz="1100" spc="-1" strike="noStrike">
              <a:solidFill>
                <a:srgbClr val="000000"/>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DB50E4-6786-4646-B3D6-EEE44AD7DCAB}" type="slidenum">
              <a:rPr b="0" lang="en-US" sz="1200" spc="-1" strike="noStrike">
                <a:solidFill>
                  <a:srgbClr val="d6ec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3D6D7-45B3-41C5-88F7-31723816533A}" type="datetime">
              <a:rPr b="0" lang="en-US" sz="1100" spc="-1" strike="noStrike">
                <a:solidFill>
                  <a:srgbClr val="d6ecff"/>
                </a:solidFill>
                <a:latin typeface="Corbel"/>
              </a:rPr>
              <a:t>07/31/26</a:t>
            </a:fld>
            <a:endParaRPr b="0" lang="en-US" sz="1100" spc="-1" strike="noStrike">
              <a:solidFill>
                <a:srgbClr val="000000"/>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18BF64-7BEE-4452-8379-1C138C29825D}" type="slidenum">
              <a:rPr b="0" lang="en-US" sz="1200" spc="-1" strike="noStrike">
                <a:solidFill>
                  <a:srgbClr val="d6ec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24CB9E-9D6E-48C8-A675-9C26DB95EB3E}" type="datetime">
              <a:rPr b="0" lang="en-US" sz="1100" spc="-1" strike="noStrike">
                <a:solidFill>
                  <a:srgbClr val="d6ecff"/>
                </a:solidFill>
                <a:latin typeface="Corbel"/>
              </a:rPr>
              <a:t>07/31/26</a:t>
            </a:fld>
            <a:endParaRPr b="0" lang="en-US" sz="1100" spc="-1" strike="noStrike">
              <a:solidFill>
                <a:srgbClr val="000000"/>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EED20-82C7-4A09-B013-CDB09A17CAAB}" type="slidenum">
              <a:rPr b="0" lang="en-US" sz="1200" spc="-1" strike="noStrike">
                <a:solidFill>
                  <a:srgbClr val="d6ec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472573-A3AD-4D80-8908-D6F7F8A4D73D}" type="datetime">
              <a:rPr b="0" lang="en-US" sz="1100" spc="-1" strike="noStrike">
                <a:solidFill>
                  <a:srgbClr val="d6ecff"/>
                </a:solidFill>
                <a:latin typeface="Corbel"/>
              </a:rPr>
              <a:t>07/31/26</a:t>
            </a:fld>
            <a:endParaRPr b="0" lang="en-US" sz="1100" spc="-1" strike="noStrike">
              <a:solidFill>
                <a:srgbClr val="000000"/>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B4F738-2560-48A7-A55A-E234A3255F50}" type="slidenum">
              <a:rPr b="0" lang="en-US" sz="1200" spc="-1" strike="noStrike">
                <a:solidFill>
                  <a:srgbClr val="d6ec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tro. </a:t>
            </a:r>
            <a:endParaRPr b="0" lang="en-US" sz="4000" spc="-1" strike="noStrike">
              <a:solidFill>
                <a:srgbClr val="c1eeff"/>
              </a:solidFill>
              <a:latin typeface="Consolas"/>
            </a:endParaRPr>
          </a:p>
        </p:txBody>
      </p:sp>
      <p:sp>
        <p:nvSpPr>
          <p:cNvPr id="369" name=""/>
          <p:cNvSpPr txBox="1"/>
          <p:nvPr/>
        </p:nvSpPr>
        <p:spPr>
          <a:xfrm>
            <a:off x="914400" y="1784520"/>
            <a:ext cx="7772400" cy="4572000"/>
          </a:xfrm>
          <a:prstGeom prst="rect">
            <a:avLst/>
          </a:prstGeom>
          <a:noFill/>
          <a:ln w="0">
            <a:noFill/>
          </a:ln>
        </p:spPr>
        <p:txBody>
          <a:bodyPr anchor="t">
            <a:normAutofit fontScale="99000"/>
          </a:bodyPr>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ow do you imagine the economy of Cincinnati 10 years from now? Stable? Well supported? Poor? Bankrupt? Well that is undecided and the decisions we make for the city today and onward will reveal the imminent future of Cincinnati Ohio. Last year Cincinnati was 50 million dollars in debt. This year Cincinnati is 32 million dollars in debt. We need a new plan, a new method to successfully balance the budget.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Research.</a:t>
            </a:r>
            <a:endParaRPr b="0" lang="en-US" sz="3600" spc="-1" strike="noStrike">
              <a:solidFill>
                <a:srgbClr val="c1eeff"/>
              </a:solidFill>
              <a:latin typeface="Consolas"/>
            </a:endParaRPr>
          </a:p>
        </p:txBody>
      </p:sp>
      <p:sp>
        <p:nvSpPr>
          <p:cNvPr id="371" name="PlaceHolder 2"/>
          <p:cNvSpPr>
            <a:spLocks noGrp="1"/>
          </p:cNvSpPr>
          <p:nvPr>
            <p:ph/>
          </p:nvPr>
        </p:nvSpPr>
        <p:spPr>
          <a:xfrm>
            <a:off x="685440" y="1434960"/>
            <a:ext cx="2514600" cy="4572000"/>
          </a:xfrm>
          <a:prstGeom prst="rect">
            <a:avLst/>
          </a:prstGeom>
          <a:noFill/>
          <a:ln w="0">
            <a:noFill/>
          </a:ln>
        </p:spPr>
        <p:txBody>
          <a:bodyPr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Houston’s 4.1 billion-budget plan </a:t>
            </a:r>
            <a:endParaRPr b="0" lang="en-US" sz="1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2" name=""/>
          <p:cNvSpPr txBox="1"/>
          <p:nvPr/>
        </p:nvSpPr>
        <p:spPr>
          <a:xfrm>
            <a:off x="3429000" y="1434960"/>
            <a:ext cx="5486400" cy="4572000"/>
          </a:xfrm>
          <a:prstGeom prst="rect">
            <a:avLst/>
          </a:prstGeom>
          <a:noFill/>
          <a:ln w="0">
            <a:noFill/>
          </a:ln>
        </p:spPr>
        <p:txBody>
          <a:bodyPr anchor="t">
            <a:normAutofit fontScale="95000"/>
          </a:bodyPr>
          <a:p>
            <a:pPr marL="390240" indent="-3254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nnise Parker unveiled a $4.1 billion spending plan, balancing the city's budget largely through a one-time draw of surplus funds, land sales, fee increases and spending cuts she insisted would have a minimal impact on Houstonians. </a:t>
            </a:r>
            <a:endParaRPr b="0" lang="en-US" sz="1800" spc="-1" strike="noStrike">
              <a:solidFill>
                <a:srgbClr val="ffffff"/>
              </a:solidFill>
              <a:latin typeface="Corbel"/>
            </a:endParaRPr>
          </a:p>
          <a:p>
            <a:pPr marL="390240" indent="-3254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General Fund operating budget of $2 billion represents one of the most significant decreases in Houston’s operating expenditures in years. </a:t>
            </a:r>
            <a:endParaRPr b="0" lang="en-US" sz="1800" spc="-1" strike="noStrike">
              <a:solidFill>
                <a:srgbClr val="ffffff"/>
              </a:solidFill>
              <a:latin typeface="Corbel"/>
            </a:endParaRPr>
          </a:p>
          <a:p>
            <a:pPr marL="390240" indent="-3254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mayor made good on her promise not to raise taxes, keeping the property tax rate the same in the coming fiscal year, and avoided the furloughs that have become commonplace in other major cities around the country. </a:t>
            </a:r>
            <a:endParaRPr b="0" lang="en-US" sz="1800" spc="-1" strike="noStrike">
              <a:solidFill>
                <a:srgbClr val="ffffff"/>
              </a:solidFill>
              <a:latin typeface="Corbel"/>
            </a:endParaRPr>
          </a:p>
          <a:p>
            <a:pPr marL="390240" indent="-3254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he says “I’m happy that our economy is still better then that in any other part of the country, and that decisions that we’ve made over the years have kept us from the financial straits that many other cities are facing” </a:t>
            </a:r>
            <a:endParaRPr b="0" lang="en-US" sz="1800" spc="-1" strike="noStrike">
              <a:solidFill>
                <a:srgbClr val="ffffff"/>
              </a:solidFill>
              <a:latin typeface="Corbel"/>
            </a:endParaRPr>
          </a:p>
          <a:p>
            <a:pPr marL="390240" indent="-3254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90240" indent="-3254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3" name="TextBox 15"/>
          <p:cNvSpPr/>
          <p:nvPr/>
        </p:nvSpPr>
        <p:spPr>
          <a:xfrm>
            <a:off x="1847880" y="2441520"/>
            <a:ext cx="18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Research.</a:t>
            </a:r>
            <a:endParaRPr b="0" lang="en-US" sz="3600" spc="-1" strike="noStrike">
              <a:solidFill>
                <a:srgbClr val="c1eeff"/>
              </a:solidFill>
              <a:latin typeface="Consolas"/>
            </a:endParaRPr>
          </a:p>
        </p:txBody>
      </p:sp>
      <p:sp>
        <p:nvSpPr>
          <p:cNvPr id="375" name="PlaceHolder 2"/>
          <p:cNvSpPr>
            <a:spLocks noGrp="1"/>
          </p:cNvSpPr>
          <p:nvPr>
            <p:ph/>
          </p:nvPr>
        </p:nvSpPr>
        <p:spPr>
          <a:xfrm>
            <a:off x="685440" y="1434960"/>
            <a:ext cx="2514600" cy="4572000"/>
          </a:xfrm>
          <a:prstGeom prst="rect">
            <a:avLst/>
          </a:prstGeom>
          <a:noFill/>
          <a:ln w="0">
            <a:noFill/>
          </a:ln>
        </p:spPr>
        <p:txBody>
          <a:bodyPr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Boston Plan which charged Non profit on valuable land annual payments </a:t>
            </a:r>
            <a:endParaRPr b="0" lang="en-US" sz="1800" spc="-1" strike="noStrike">
              <a:solidFill>
                <a:srgbClr val="ffffff"/>
              </a:solidFill>
              <a:latin typeface="Corbel"/>
            </a:endParaRPr>
          </a:p>
        </p:txBody>
      </p:sp>
      <p:sp>
        <p:nvSpPr>
          <p:cNvPr id="376" name=""/>
          <p:cNvSpPr txBox="1"/>
          <p:nvPr/>
        </p:nvSpPr>
        <p:spPr>
          <a:xfrm>
            <a:off x="3429000" y="1434960"/>
            <a:ext cx="5486400" cy="4572000"/>
          </a:xfrm>
          <a:prstGeom prst="rect">
            <a:avLst/>
          </a:prstGeom>
          <a:noFill/>
          <a:ln w="0">
            <a:noFill/>
          </a:ln>
        </p:spPr>
        <p:txBody>
          <a:bodyPr anchor="t">
            <a:normAutofit fontScale="91000"/>
          </a:bodyPr>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Boston has sent letters to its largest nonprofit institutions telling them the value of their land and asking them to begin making annual payments that would eventually rise to a quarter of what they would owe if they paid property taxes.</a:t>
            </a:r>
            <a:endParaRPr b="0" lang="en-US" sz="32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Research.</a:t>
            </a:r>
            <a:endParaRPr b="0" lang="en-US" sz="3600" spc="-1" strike="noStrike">
              <a:solidFill>
                <a:srgbClr val="c1eeff"/>
              </a:solidFill>
              <a:latin typeface="Consolas"/>
            </a:endParaRPr>
          </a:p>
        </p:txBody>
      </p:sp>
      <p:sp>
        <p:nvSpPr>
          <p:cNvPr id="378" name="PlaceHolder 2"/>
          <p:cNvSpPr>
            <a:spLocks noGrp="1"/>
          </p:cNvSpPr>
          <p:nvPr>
            <p:ph/>
          </p:nvPr>
        </p:nvSpPr>
        <p:spPr>
          <a:xfrm>
            <a:off x="685440" y="1434960"/>
            <a:ext cx="2514600" cy="4572000"/>
          </a:xfrm>
          <a:prstGeom prst="rect">
            <a:avLst/>
          </a:prstGeom>
          <a:noFill/>
          <a:ln w="0">
            <a:noFill/>
          </a:ln>
        </p:spPr>
        <p:txBody>
          <a:bodyPr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Mayor Rahm Emanuel</a:t>
            </a:r>
            <a:endParaRPr b="0" lang="en-US" sz="1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ngel Taveras </a:t>
            </a:r>
            <a:endParaRPr b="0" lang="en-US" sz="1800" spc="-1" strike="noStrike">
              <a:solidFill>
                <a:srgbClr val="ffffff"/>
              </a:solidFill>
              <a:latin typeface="Corbel"/>
            </a:endParaRPr>
          </a:p>
        </p:txBody>
      </p:sp>
      <p:sp>
        <p:nvSpPr>
          <p:cNvPr id="379" name=""/>
          <p:cNvSpPr txBox="1"/>
          <p:nvPr/>
        </p:nvSpPr>
        <p:spPr>
          <a:xfrm>
            <a:off x="3429000" y="1434960"/>
            <a:ext cx="5486400" cy="457200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rbel"/>
              </a:rPr>
              <a:t>Rahm Emanuel, Mayor of Chicago wants the city to begin charging water fees to nonprofits, which have been spared them in the past. </a:t>
            </a:r>
            <a:endParaRPr b="0" lang="en-US" sz="15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rbel"/>
              </a:rPr>
              <a:t>The mayor of Providence, R.I., Angel Taveras, cited Boston’s example this month when he called on nonprofits to pay more money to the city. He said “Every citizen, every city worker, every taxpayer, every business and every organization — including tax-exempt institutions — must share part of the burden of saving our city,”</a:t>
            </a:r>
            <a:endParaRPr b="0" lang="en-US" sz="15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rbel"/>
              </a:rPr>
              <a:t>He proposed closing Providence’s $109 million budget gap by shutting schools, laying off workers, cutting the Police and Fire Department budgets and raising taxes on homeowners as well as seeking larger payments from the city’s prestigious universities and other nonprofit institutions.</a:t>
            </a:r>
            <a:endParaRPr b="0" lang="en-US" sz="15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rbel"/>
              </a:rPr>
              <a:t> </a:t>
            </a:r>
            <a:endParaRPr b="0" lang="en-US" sz="15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Research.</a:t>
            </a:r>
            <a:endParaRPr b="0" lang="en-US" sz="3600" spc="-1" strike="noStrike">
              <a:solidFill>
                <a:srgbClr val="c1eeff"/>
              </a:solidFill>
              <a:latin typeface="Consolas"/>
            </a:endParaRPr>
          </a:p>
        </p:txBody>
      </p:sp>
      <p:sp>
        <p:nvSpPr>
          <p:cNvPr id="381" name="PlaceHolder 2"/>
          <p:cNvSpPr>
            <a:spLocks noGrp="1"/>
          </p:cNvSpPr>
          <p:nvPr>
            <p:ph/>
          </p:nvPr>
        </p:nvSpPr>
        <p:spPr>
          <a:xfrm>
            <a:off x="685440" y="1434960"/>
            <a:ext cx="2514600" cy="4572000"/>
          </a:xfrm>
          <a:prstGeom prst="rect">
            <a:avLst/>
          </a:prstGeom>
          <a:noFill/>
          <a:ln w="0">
            <a:noFill/>
          </a:ln>
        </p:spPr>
        <p:txBody>
          <a:bodyPr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How Alabama delt with debt, and avoided bankruptcy.</a:t>
            </a:r>
            <a:endParaRPr b="0" lang="en-US" sz="1800" spc="-1" strike="noStrike">
              <a:solidFill>
                <a:srgbClr val="ffffff"/>
              </a:solidFill>
              <a:latin typeface="Corbel"/>
            </a:endParaRPr>
          </a:p>
        </p:txBody>
      </p:sp>
      <p:sp>
        <p:nvSpPr>
          <p:cNvPr id="382" name=""/>
          <p:cNvSpPr txBox="1"/>
          <p:nvPr/>
        </p:nvSpPr>
        <p:spPr>
          <a:xfrm>
            <a:off x="3429000" y="1434960"/>
            <a:ext cx="5486400" cy="4572000"/>
          </a:xfrm>
          <a:prstGeom prst="rect">
            <a:avLst/>
          </a:prstGeom>
          <a:noFill/>
          <a:ln w="0">
            <a:noFill/>
          </a:ln>
        </p:spPr>
        <p:txBody>
          <a:bodyPr anchor="t">
            <a:normAutofit fontScale="99000"/>
          </a:bodyPr>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 preliminary deal approved  with Wall Street bankers would allow Alabama's most populous county to avoid the embarrassment of filing the largest municipal bankruptcy in U.S. history.</a:t>
            </a:r>
            <a:endParaRPr b="0" lang="en-US" sz="18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But to help bail their local government out of $3 billion in sewer debt, residents could see tax increases, service reductions and decades of sewer rate hikes.</a:t>
            </a:r>
            <a:endParaRPr b="0" lang="en-US" sz="18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agreement would cap sewer rate increases at 8.2 percent annually for the first three years, followed by yearly increases of as much as 3.25 percent for an indefinite period.</a:t>
            </a:r>
            <a:endParaRPr b="0" lang="en-US" sz="18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settlement proposal with Wall Street investors led by JPMorgan Chase &amp; Co includes the lenders agreeing to forgive about $1 billion in debt, the county refinancing about $2 billion, and the a series of sewer rate increases.</a:t>
            </a:r>
            <a:endParaRPr b="0" lang="en-US" sz="18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Research.</a:t>
            </a:r>
            <a:endParaRPr b="0" lang="en-US" sz="3600" spc="-1" strike="noStrike">
              <a:solidFill>
                <a:srgbClr val="c1eeff"/>
              </a:solidFill>
              <a:latin typeface="Consolas"/>
            </a:endParaRPr>
          </a:p>
        </p:txBody>
      </p:sp>
      <p:sp>
        <p:nvSpPr>
          <p:cNvPr id="384" name="PlaceHolder 2"/>
          <p:cNvSpPr>
            <a:spLocks noGrp="1"/>
          </p:cNvSpPr>
          <p:nvPr>
            <p:ph/>
          </p:nvPr>
        </p:nvSpPr>
        <p:spPr>
          <a:xfrm>
            <a:off x="685440" y="1434960"/>
            <a:ext cx="2514600" cy="4572000"/>
          </a:xfrm>
          <a:prstGeom prst="rect">
            <a:avLst/>
          </a:prstGeom>
          <a:noFill/>
          <a:ln w="0">
            <a:noFill/>
          </a:ln>
        </p:spPr>
        <p:txBody>
          <a:bodyPr anchor="t">
            <a:normAutofit/>
          </a:bodyPr>
          <a:p>
            <a:pPr marL="54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Body)"/>
                <a:ea typeface="Corbel (Body)"/>
              </a:rPr>
              <a:t>Miami Valley Cities in Southwest Ohio to increase fees to cover shortages, projects, etc.</a:t>
            </a:r>
            <a:endParaRPr b="0" lang="en-US" sz="1800" spc="-1" strike="noStrike">
              <a:solidFill>
                <a:srgbClr val="ffffff"/>
              </a:solidFill>
              <a:latin typeface="Corbel"/>
            </a:endParaRPr>
          </a:p>
        </p:txBody>
      </p:sp>
      <p:sp>
        <p:nvSpPr>
          <p:cNvPr id="385" name=""/>
          <p:cNvSpPr txBox="1"/>
          <p:nvPr/>
        </p:nvSpPr>
        <p:spPr>
          <a:xfrm>
            <a:off x="3429000" y="1434960"/>
            <a:ext cx="5486400" cy="4572000"/>
          </a:xfrm>
          <a:prstGeom prst="rect">
            <a:avLst/>
          </a:prstGeom>
          <a:noFill/>
          <a:ln w="0">
            <a:noFill/>
          </a:ln>
        </p:spPr>
        <p:txBody>
          <a:bodyPr anchor="t">
            <a:normAutofit fontScale="97000"/>
          </a:bodyPr>
          <a:p>
            <a:pPr marL="398520" indent="-332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1800" spc="-1" strike="noStrike">
                <a:solidFill>
                  <a:srgbClr val="ffffff"/>
                </a:solidFill>
                <a:latin typeface="Corbel"/>
              </a:rPr>
              <a:t>- Oakwood doubled residents’ trash fees early in 2010 from an area-low $6.15 per month to a still-low $12.50. City Manager Norbert Klopsch said in the coming months, Oakwood will discuss whether to increase those fees further, as the city still loses $875,000 annually on trash services.</a:t>
            </a:r>
            <a:endParaRPr b="0" lang="en-US" sz="1800" spc="-1" strike="noStrike">
              <a:solidFill>
                <a:srgbClr val="ffffff"/>
              </a:solidFill>
              <a:latin typeface="Corbel"/>
            </a:endParaRPr>
          </a:p>
          <a:p>
            <a:pPr marL="398520" indent="-332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1800" spc="-1" strike="noStrike">
                <a:solidFill>
                  <a:srgbClr val="ffffff"/>
                </a:solidFill>
                <a:latin typeface="Corbel"/>
              </a:rPr>
              <a:t>- Miamisburg is raising its water and sewer rates dramatically after seeing that its prices were the lowest in southwest Ohio in a 2009 survey.</a:t>
            </a:r>
            <a:endParaRPr b="0" lang="en-US" sz="1800" spc="-1" strike="noStrike">
              <a:solidFill>
                <a:srgbClr val="ffffff"/>
              </a:solidFill>
              <a:latin typeface="Corbel"/>
            </a:endParaRPr>
          </a:p>
          <a:p>
            <a:pPr marL="398520" indent="-332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1800" spc="-1" strike="noStrike">
                <a:solidFill>
                  <a:srgbClr val="ffffff"/>
                </a:solidFill>
                <a:latin typeface="Corbel"/>
              </a:rPr>
              <a:t>- Dayton city officials considered an income tax hike, but after hearing opposition from residents, they proposed a 2011 budget that recommends other measures, including increased trash and ambulance transport fees.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llaboration.</a:t>
            </a:r>
            <a:endParaRPr b="0" lang="en-US" sz="4000" spc="-1" strike="noStrike">
              <a:solidFill>
                <a:srgbClr val="c1eeff"/>
              </a:solidFill>
              <a:latin typeface="Consolas"/>
            </a:endParaRPr>
          </a:p>
        </p:txBody>
      </p:sp>
      <p:sp>
        <p:nvSpPr>
          <p:cNvPr id="387" name=""/>
          <p:cNvSpPr txBox="1"/>
          <p:nvPr/>
        </p:nvSpPr>
        <p:spPr>
          <a:xfrm>
            <a:off x="914400" y="1784520"/>
            <a:ext cx="7772400" cy="4572000"/>
          </a:xfrm>
          <a:prstGeom prst="rect">
            <a:avLst/>
          </a:prstGeom>
          <a:noFill/>
          <a:ln w="0">
            <a:noFill/>
          </a:ln>
        </p:spPr>
        <p:txBody>
          <a:bodyPr anchor="t">
            <a:normAutofit fontScale="93000"/>
          </a:bodyPr>
          <a:p>
            <a:pPr marL="382320" indent="-31860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I contacted Oren J. Henry from the Cincinnati Budget Office, and received an email from him with the City Manager’s presentation which included details on the General Fund Operating budget, and what percentage of it is going where.</a:t>
            </a:r>
            <a:endParaRPr b="0" lang="en-US" sz="2600" spc="-1" strike="noStrike">
              <a:solidFill>
                <a:srgbClr val="ffffff"/>
              </a:solidFill>
              <a:latin typeface="Corbel"/>
            </a:endParaRPr>
          </a:p>
          <a:p>
            <a:pPr marL="382320" indent="-31860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I contacted the offices of the Mayor of Houston, Chicago, and Boston, Annise Parker, Rahm Emanuel, and Thomas M. Menino.</a:t>
            </a:r>
            <a:endParaRPr b="0" lang="en-US" sz="2600" spc="-1" strike="noStrike">
              <a:solidFill>
                <a:srgbClr val="ffffff"/>
              </a:solidFill>
              <a:latin typeface="Corbel"/>
            </a:endParaRPr>
          </a:p>
          <a:p>
            <a:pPr marL="382320" indent="-31860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 </a:t>
            </a:r>
            <a:r>
              <a:rPr b="0" lang="en-US" sz="2600" spc="-1" strike="noStrike">
                <a:solidFill>
                  <a:srgbClr val="ffffff"/>
                </a:solidFill>
                <a:latin typeface="Corbel"/>
              </a:rPr>
              <a:t>The representatives who responded to my emails and questions answered some, then forwarded the rest of higher up officials who can answer them more accurately.</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 Plan.</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y plan consists of 2 componen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mponent 1: Using Mayor Taveras’ example and idea that </a:t>
            </a:r>
            <a:r>
              <a:rPr b="0" lang="en-US" sz="2800" spc="-1" strike="noStrike">
                <a:solidFill>
                  <a:srgbClr val="ffffff"/>
                </a:solidFill>
                <a:latin typeface="Corbel"/>
              </a:rPr>
              <a:t>Every citizen, every city worker, every taxpayer, every business and every organization including tax-exempt institutions must share part of the burden of saving our city I typed out a rough draft of the math I used to balance the budget.</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 Plan.</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0T14:40:22Z</dcterms:created>
  <dc:creator>admin</dc:creator>
  <dc:description/>
  <dc:language>en-US</dc:language>
  <cp:lastModifiedBy>admin</cp:lastModifiedBy>
  <dcterms:modified xsi:type="dcterms:W3CDTF">2011-10-10T15:15:33Z</dcterms:modified>
  <cp:revision>2</cp:revision>
  <dc:subject/>
  <dc:title>Intro. </dc:title>
</cp:coreProperties>
</file>